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1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C49D-8F92-426E-9725-A452229AE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02FE-5C76-4DD9-B169-3DA8341B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936-C4D3-4B7C-B314-0CC9447E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3B46-7BB6-40BC-96F8-EBACD284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349E-0845-44D7-8941-04F68B150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5353-DABF-4EA7-8984-51234FB2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7B3D-FD75-4014-81D3-A763F11B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E815-696E-4FF7-87AD-5B9E04FB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2802-3495-4CDB-8E36-EFC6437C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C4A4-415A-4B0E-8334-B875BDA1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879E-7029-4805-83BF-4DDB98EF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E872-32FA-45A1-B215-9ED57890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9752-9A06-4FF2-9C4C-657072E4A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DA833-CE61-45E8-9030-166EF9F0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2C01-3DC0-4A3D-94DE-75EA74B6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BA3A-2B3F-4F51-BEAB-5B1AF96D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38E2-6987-47F9-9EAB-0CF1B82D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A473-C2ED-4A19-869C-A081782B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99B6-AB09-495A-B8C9-E27E2E2F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AB5C-49A4-46F0-A8F1-1E7C73B5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66DDB-5913-4CA0-914C-97D75A21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CEB98-0FE5-4AC4-BD63-85A263AD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0CFE-012B-442A-9972-E4103E773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8BF9-5586-4648-920F-6CA80BAF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7F43-C0B9-4BEC-A408-21EED5E9CC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76F61-6CD7-4285-9F80-F75E1EE230D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5712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onstantia"/>
              </a:rPr>
              <a:t>TRUNCUS CEREBR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9280" y="2071800"/>
            <a:ext cx="8964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nstantia"/>
              </a:rPr>
              <a:t>MEDULLA OBLONGATA (</a:t>
            </a:r>
            <a:r>
              <a:rPr b="0" lang="sr-CS" sz="3000" spc="-1" strike="noStrike">
                <a:solidFill>
                  <a:srgbClr val="000000"/>
                </a:solidFill>
                <a:latin typeface="Constantia"/>
              </a:rPr>
              <a:t>ПРОДУЖЕНА МОЖДИНА</a:t>
            </a:r>
            <a:r>
              <a:rPr b="0" lang="sr-Latn-CS" sz="3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nstantia"/>
              </a:rPr>
              <a:t>PONS (</a:t>
            </a:r>
            <a:r>
              <a:rPr b="0" lang="sr-CS" sz="3000" spc="-1" strike="noStrike">
                <a:solidFill>
                  <a:srgbClr val="000000"/>
                </a:solidFill>
                <a:latin typeface="Constantia"/>
              </a:rPr>
              <a:t>МОСТ</a:t>
            </a:r>
            <a:r>
              <a:rPr b="0" lang="sr-Latn-CS" sz="3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nstantia"/>
              </a:rPr>
              <a:t>MESENCEPHALON (</a:t>
            </a:r>
            <a:r>
              <a:rPr b="0" lang="sr-CS" sz="3000" spc="-1" strike="noStrike">
                <a:solidFill>
                  <a:srgbClr val="000000"/>
                </a:solidFill>
                <a:latin typeface="Constantia"/>
              </a:rPr>
              <a:t>СРЕДЊИ МОЗАК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Constantia"/>
              </a:rPr>
              <a:t>(ISTHMUS ROMBENCEPHAL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0" y="10717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Constantia"/>
              </a:rPr>
              <a:t>P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6786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ГРАНИЦЕ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ВЕНТРАЛНА СТРАН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ДОЛЕ (према medulli oblongati)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sulcus bulbopontin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(излазе VI,VII, VIIbis и VIII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кр. жива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ГОРЕ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(према мезенцефалону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f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ossa prepo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БОЧ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линија која повезује место изласка N.V са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местом изласка N.V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rcRect l="7788" t="6855" r="38165" b="38194"/>
          <a:stretch/>
        </p:blipFill>
        <p:spPr>
          <a:xfrm>
            <a:off x="4648320" y="2500200"/>
            <a:ext cx="432252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0" y="10717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Constantia"/>
              </a:rPr>
              <a:t>P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6786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ВЕНТРАЛНА СТРАН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Sulcus basilaris(a.basilar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Eminentio pyramidalis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(влакна пирамидалног пу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Fibrae pontis transvers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Peduncululi cerebelares me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rcRect l="7788" t="6855" r="38165" b="38194"/>
          <a:stretch/>
        </p:blipFill>
        <p:spPr>
          <a:xfrm>
            <a:off x="4648320" y="2500200"/>
            <a:ext cx="4322520" cy="32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"/>
          <p:cNvPicPr/>
          <p:nvPr/>
        </p:nvPicPr>
        <p:blipFill>
          <a:blip r:embed="rId1"/>
          <a:srcRect l="8711" t="6260" r="38312" b="37549"/>
          <a:stretch/>
        </p:blipFill>
        <p:spPr>
          <a:xfrm>
            <a:off x="3976560" y="2214720"/>
            <a:ext cx="5167440" cy="41097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0" y="10717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Constantia"/>
              </a:rPr>
              <a:t>P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785880"/>
            <a:ext cx="521496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ГРАНИЦЕ: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ДОРЗАЛНА СТРАНА: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ДОЛЕ(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према medulli oblonga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striae medul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ГОРЕ(према мезенцефалон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задња ивица laminae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 quadrigemin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rcRect l="8711" t="6260" r="38312" b="37549"/>
          <a:stretch/>
        </p:blipFill>
        <p:spPr>
          <a:xfrm>
            <a:off x="3976560" y="1714680"/>
            <a:ext cx="5167440" cy="410976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0" y="10717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Constantia"/>
              </a:rPr>
              <a:t>P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-360" y="785880"/>
            <a:ext cx="564372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ДОРЗАЛНА СТРАНА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Pars pontina fossa rhomboide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Stiae medul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Pedunculi cerebellares sup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Colliculus facialis</a:t>
            </a: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једро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.abducens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Eminentio media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Sulcus limit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Fovea superior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моторно једро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 N.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Locus coeruleus (nucleus coerule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- богато пигментом мелани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- норадреналин (највећаконцентрација!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area vestibularis s.acustica*</a:t>
            </a: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једра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 N.VIII</a:t>
            </a: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14920" y="114264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 u="sng">
                <a:solidFill>
                  <a:srgbClr val="000000"/>
                </a:solidFill>
                <a:uFillTx/>
                <a:latin typeface="Arial"/>
              </a:rPr>
              <a:t>Mesencephal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-360" y="999720"/>
            <a:ext cx="66438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Лоциран између diencephalon-а и pons-а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На вентралној страни садржи два</a:t>
            </a:r>
            <a:br>
              <a:rPr sz="2000"/>
            </a:br>
            <a:r>
              <a:rPr b="0" lang="sr-Latn-CS" sz="2000" spc="-1" strike="noStrike">
                <a:solidFill>
                  <a:srgbClr val="0070c0"/>
                </a:solidFill>
                <a:latin typeface="Constantia"/>
              </a:rPr>
              <a:t>pedunculs cerebellaris-a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: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Нисходна влана која иду ка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cerebellum-у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    преко понс-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Нисходни пирамидални п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- 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Кроз средњи мозак пролази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2000" spc="-1" strike="noStrike">
                <a:solidFill>
                  <a:srgbClr val="0070c0"/>
                </a:solidFill>
                <a:latin typeface="Constantia"/>
              </a:rPr>
              <a:t>aqueductus cerebri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који повезује 3. и 4.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   мождану комо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Кров aqueductusa cerebri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i="1" lang="en-US" sz="2000" spc="-1" strike="noStrike">
                <a:solidFill>
                  <a:srgbClr val="0070c0"/>
                </a:solidFill>
                <a:latin typeface="Constantia"/>
              </a:rPr>
              <a:t>tectum</a:t>
            </a: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садржи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2000" spc="-1" strike="noStrike">
                <a:solidFill>
                  <a:srgbClr val="0070c0"/>
                </a:solidFill>
                <a:latin typeface="Constantia"/>
              </a:rPr>
              <a:t>corpora</a:t>
            </a:r>
            <a:r>
              <a:rPr b="0" lang="en-US" sz="2000" spc="-1" strike="noStrike">
                <a:solidFill>
                  <a:srgbClr val="0070c0"/>
                </a:solidFill>
                <a:latin typeface="Constantia"/>
              </a:rPr>
              <a:t> quadrigem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70c0"/>
              </a:buClr>
              <a:buFont typeface="Constant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70c0"/>
                </a:solidFill>
                <a:latin typeface="Constantia"/>
              </a:rPr>
              <a:t>Colliculi superiores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(2)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који контролишу рефлексне покрете 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очију, главе и врата, као одговор на визуелни стимул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70c0"/>
              </a:buClr>
              <a:buFont typeface="Constant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70c0"/>
                </a:solidFill>
                <a:latin typeface="Constantia"/>
              </a:rPr>
              <a:t>Colliculi inferiores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(2) 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који контролишу рефлексне покрете очију, главе и врата, као одговор на аудитивни стимул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sol00672"/>
          <p:cNvPicPr/>
          <p:nvPr/>
        </p:nvPicPr>
        <p:blipFill>
          <a:blip r:embed="rId1"/>
          <a:stretch/>
        </p:blipFill>
        <p:spPr>
          <a:xfrm>
            <a:off x="5162400" y="2071800"/>
            <a:ext cx="39816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6" descr="http://upload.wikimedia.org/wikipedia/commons/3/33/Human_brain_midsagittal_cut_description.JPG"/>
          <p:cNvPicPr/>
          <p:nvPr/>
        </p:nvPicPr>
        <p:blipFill>
          <a:blip r:embed="rId1"/>
          <a:srcRect l="5047" t="0" r="0" b="0"/>
          <a:stretch/>
        </p:blipFill>
        <p:spPr>
          <a:xfrm>
            <a:off x="4071960" y="1928880"/>
            <a:ext cx="5072040" cy="3703680"/>
          </a:xfrm>
          <a:prstGeom prst="rect">
            <a:avLst/>
          </a:prstGeom>
          <a:ln w="0">
            <a:noFill/>
          </a:ln>
        </p:spPr>
      </p:pic>
      <p:cxnSp>
        <p:nvCxnSpPr>
          <p:cNvPr id="191" name="Straight Arrow Connector 7"/>
          <p:cNvCxnSpPr/>
          <p:nvPr/>
        </p:nvCxnSpPr>
        <p:spPr>
          <a:xfrm flipH="1" flipV="1">
            <a:off x="5214240" y="5142960"/>
            <a:ext cx="143640" cy="857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2" name="Straight Arrow Connector 12"/>
          <p:cNvCxnSpPr/>
          <p:nvPr/>
        </p:nvCxnSpPr>
        <p:spPr>
          <a:xfrm flipH="1" flipV="1">
            <a:off x="5928480" y="4785840"/>
            <a:ext cx="500760" cy="1572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3" name="Straight Arrow Connector 14"/>
          <p:cNvCxnSpPr/>
          <p:nvPr/>
        </p:nvCxnSpPr>
        <p:spPr>
          <a:xfrm flipH="1" flipV="1">
            <a:off x="6285960" y="4214160"/>
            <a:ext cx="857880" cy="17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4" name="TextBox 16"/>
          <p:cNvSpPr/>
          <p:nvPr/>
        </p:nvSpPr>
        <p:spPr>
          <a:xfrm>
            <a:off x="4069440" y="60721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edulla oblong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7"/>
          <p:cNvSpPr/>
          <p:nvPr/>
        </p:nvSpPr>
        <p:spPr>
          <a:xfrm>
            <a:off x="6267600" y="62866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9"/>
          <p:cNvSpPr/>
          <p:nvPr/>
        </p:nvSpPr>
        <p:spPr>
          <a:xfrm>
            <a:off x="6643080" y="600084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esencepha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0" y="928440"/>
            <a:ext cx="419112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ГРАНИЦА: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ВЕНТРАЛНА СТР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доле: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fossa prepo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горе: раван која пролази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 кроз 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corpora mammilari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ДОРЗАЛНА СТР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горе: предња ивица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laminae quadrige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доле: задња ивица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laminae quadrige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0" y="100008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Constantia"/>
              </a:rPr>
              <a:t>Mesencepha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360" y="1571760"/>
            <a:ext cx="56437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ДЕЛОВИ 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MESENCEFAL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nstantia"/>
              </a:rPr>
              <a:t>1.TECTUM  MESENCEPHALI – </a:t>
            </a:r>
            <a:r>
              <a:rPr b="0" lang="sr-CS" sz="2200" spc="-1" strike="noStrike">
                <a:solidFill>
                  <a:srgbClr val="000000"/>
                </a:solidFill>
                <a:latin typeface="Constantia"/>
              </a:rPr>
              <a:t>кров/ кровна плоча (</a:t>
            </a:r>
            <a:r>
              <a:rPr b="0" lang="sr-Latn-CS" sz="2200" spc="-1" strike="noStrike">
                <a:solidFill>
                  <a:srgbClr val="000000"/>
                </a:solidFill>
                <a:latin typeface="Constantia"/>
              </a:rPr>
              <a:t>laminaquadrigemina</a:t>
            </a:r>
            <a:r>
              <a:rPr b="0" lang="sr-CS" sz="22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nstantia"/>
              </a:rPr>
              <a:t>2.PEDUNCULI CEREBRI – </a:t>
            </a:r>
            <a:r>
              <a:rPr b="0" lang="sr-CS" sz="2200" spc="-1" strike="noStrike">
                <a:solidFill>
                  <a:srgbClr val="000000"/>
                </a:solidFill>
                <a:latin typeface="Constantia"/>
              </a:rPr>
              <a:t>мождане ножиц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Constantia"/>
              </a:rPr>
              <a:t>a)TEGMENTUM – </a:t>
            </a:r>
            <a:r>
              <a:rPr b="0" lang="sr-CS" sz="2200" spc="-1" strike="noStrike">
                <a:solidFill>
                  <a:srgbClr val="000000"/>
                </a:solidFill>
                <a:latin typeface="Constantia"/>
              </a:rPr>
              <a:t>мождана капиц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Constantia"/>
              </a:rPr>
              <a:t>б</a:t>
            </a:r>
            <a:r>
              <a:rPr b="0" lang="sr-Latn-CS" sz="2200" spc="-1" strike="noStrike">
                <a:solidFill>
                  <a:srgbClr val="000000"/>
                </a:solidFill>
                <a:latin typeface="Constantia"/>
              </a:rPr>
              <a:t>)CRURA CEREB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onstantia"/>
              </a:rPr>
              <a:t>3.AQUEDUCTUS MESENCEPHALI –</a:t>
            </a:r>
            <a:r>
              <a:rPr b="0" lang="sr-CS" sz="2200" spc="-1" strike="noStrike">
                <a:solidFill>
                  <a:srgbClr val="000000"/>
                </a:solidFill>
                <a:latin typeface="Constantia"/>
              </a:rPr>
              <a:t>централна шупљи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4572000" y="100008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 u="sng">
                <a:solidFill>
                  <a:srgbClr val="000000"/>
                </a:solidFill>
                <a:uFillTx/>
                <a:latin typeface="Constantia"/>
              </a:rPr>
              <a:t>Mesencepha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1"/>
          <a:srcRect l="19836" t="23017" r="48265" b="16138"/>
          <a:stretch/>
        </p:blipFill>
        <p:spPr>
          <a:xfrm>
            <a:off x="5643720" y="2071800"/>
            <a:ext cx="350028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4" descr="untitled"/>
          <p:cNvPicPr/>
          <p:nvPr/>
        </p:nvPicPr>
        <p:blipFill>
          <a:blip r:embed="rId1"/>
          <a:stretch/>
        </p:blipFill>
        <p:spPr>
          <a:xfrm>
            <a:off x="2000160" y="74520"/>
            <a:ext cx="5430960" cy="678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85560" y="928440"/>
            <a:ext cx="6357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ЈЕДРА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МО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ЖДАНИХ ЖИВА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1550880"/>
            <a:ext cx="5435640" cy="53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N. HYPOGLOSSUS (XI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- nc. nervi hypoglossi (OS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N. ACCESSORIUS (X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- nc. ambiguus (PV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- nc. spinalis n. accessorii (PV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N. VAGUS (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- nc. ambiguus (PV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- nc. dorsalis n. vagi (OVM – parasim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- nc. spinalis n. trigemini (O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- nc. solitarius (PVS i OV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N. GLOSSOPHARYNGEUS (I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- nc. ambiguus (PV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- nc. salivatorius inferior (OVM – parasim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- nc. spinalis n. trigemini (O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- nc. solitarius (PVS i OV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88000" y="1549440"/>
            <a:ext cx="4356000" cy="530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N. VESTIBULOCOCHLEARIS (VII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a) N. Cochle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cochlearis dorsalis (P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cochlearis ventralis (P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b) N. Vestibular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vestibularis superior (P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vestibularis lateralis (P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vestibularis inferior (P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vestibularis medialis (P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N. FACIALIS (VI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nervi facialis (PV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salivatorius superior (OV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spinalis n. trigemini (O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solitarius (PVS i OV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N. ABDUCENS (V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nervi abducentis (OS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2960" y="9284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ЈЕДРА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 МО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ЖДАНИХ ЖИВА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2000160"/>
            <a:ext cx="914400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TRIGEMINUS (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sensorius superior s. nc. pontinus n. trigeminalis (O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spinalis n. trigemini (O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tractus mesencephalici n. trigeminalis (O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motorius n. trigeminalis (PV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N. TROCHLEARIS (IV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nervi trochlearis (OS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N. OCULOMOTORIUS (II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nervi oculomotorii (OS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oculomotorius accessorius s. autonomicus Edinger-Westphal (OVM –  </a:t>
            </a:r>
            <a:r>
              <a:rPr b="1" lang="sr-CS" sz="1600" spc="-1" strike="noStrike">
                <a:solidFill>
                  <a:srgbClr val="000000"/>
                </a:solidFill>
                <a:latin typeface="Constantia"/>
              </a:rPr>
              <a:t>парасимп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rcRect l="7936" t="0" r="37537" b="37746"/>
          <a:stretch/>
        </p:blipFill>
        <p:spPr>
          <a:xfrm>
            <a:off x="468360" y="54000"/>
            <a:ext cx="793908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4" descr="Untitled-3"/>
          <p:cNvPicPr/>
          <p:nvPr/>
        </p:nvPicPr>
        <p:blipFill>
          <a:blip r:embed="rId1">
            <a:lum contrast="24000"/>
          </a:blip>
          <a:srcRect l="13690" t="17883" r="7317" b="23878"/>
          <a:stretch/>
        </p:blipFill>
        <p:spPr>
          <a:xfrm>
            <a:off x="1619280" y="260280"/>
            <a:ext cx="603576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0040" y="114264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РЕТИКУЛАРНА ФОРМАЦИЈА МО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ЖДАНОГ СТАБ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2071800"/>
            <a:ext cx="914400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Заузима централни део можданог стабла (каудално се наставља у ламина VII кичмене мождине, а рострално, преко субталамуса, доллази до интраламинарних једара таламус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Регули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ше будно стање, контролише моторне, а утиче на многе висцералне функције, јер се у њој налазе неки витални центри (за дисање, рад срца, гутањ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8760" y="10000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РЕТИКУЛАРНА ФОРМАЦИЈА МО</a:t>
            </a:r>
            <a:r>
              <a:rPr b="1" lang="sr-Latn-CS" sz="2400" spc="-1" strike="noStrike">
                <a:solidFill>
                  <a:srgbClr val="000000"/>
                </a:solidFill>
                <a:latin typeface="Constantia"/>
              </a:rPr>
              <a:t>ЖДАНОГ СТАБ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57120" y="17859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nstantia"/>
              </a:rPr>
              <a:t>МЕДИЈАЛНА ЗОНА </a:t>
            </a: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(ZONA MEDIA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sr-CS" sz="1600" spc="-1" strike="noStrike">
                <a:solidFill>
                  <a:srgbClr val="000000"/>
                </a:solidFill>
                <a:latin typeface="Constantia"/>
              </a:rPr>
              <a:t>Магноцелуларна з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- nuclei raphes 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– леже уз саму средишну лин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- највећа конц. серотонина у целом ЦНС – у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  <a:ea typeface="Guli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- nuclei paramedi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Constantia"/>
              </a:rPr>
              <a:t>ИНТЕРМЕДИЈЕРНА З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sr-CS" sz="1600" spc="-1" strike="noStrike">
                <a:solidFill>
                  <a:srgbClr val="000000"/>
                </a:solidFill>
                <a:latin typeface="Constantia"/>
              </a:rPr>
              <a:t>Гигантоцелуларна или магноцелуларна з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onstantia"/>
              </a:rPr>
              <a:t>ЛАТЕРАЛНА З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Constantia"/>
              </a:rPr>
              <a:t>Парвоцелуларна з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onstantia"/>
              </a:rPr>
              <a:t>Латерална зона има рецептивну или асоцијативну улогу, док је интермедијерна зона ефекторни део ретикуларне форм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"/>
          <p:cNvPicPr/>
          <p:nvPr/>
        </p:nvPicPr>
        <p:blipFill>
          <a:blip r:embed="rId1"/>
          <a:srcRect l="21636" t="13567" r="539" b="4660"/>
          <a:stretch/>
        </p:blipFill>
        <p:spPr>
          <a:xfrm>
            <a:off x="0" y="0"/>
            <a:ext cx="4506840" cy="32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Picture 2" descr=""/>
          <p:cNvPicPr/>
          <p:nvPr/>
        </p:nvPicPr>
        <p:blipFill>
          <a:blip r:embed="rId2"/>
          <a:srcRect l="53731" t="27856" r="539" b="12635"/>
          <a:stretch/>
        </p:blipFill>
        <p:spPr>
          <a:xfrm>
            <a:off x="4497480" y="0"/>
            <a:ext cx="4646520" cy="327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Picture 2" descr=""/>
          <p:cNvPicPr/>
          <p:nvPr/>
        </p:nvPicPr>
        <p:blipFill>
          <a:blip r:embed="rId3"/>
          <a:srcRect l="719" t="28196" r="53462" b="5820"/>
          <a:stretch/>
        </p:blipFill>
        <p:spPr>
          <a:xfrm>
            <a:off x="2428920" y="3411360"/>
            <a:ext cx="4422600" cy="344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nstantia"/>
              </a:rPr>
              <a:t>РЕЛЕЈНА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nstantia"/>
              </a:rPr>
              <a:t>ЈЕДРА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МО</a:t>
            </a:r>
            <a:r>
              <a:rPr b="1" lang="sr-Latn-CS" sz="2800" spc="-1" strike="noStrike">
                <a:solidFill>
                  <a:srgbClr val="000000"/>
                </a:solidFill>
                <a:latin typeface="Constantia"/>
              </a:rPr>
              <a:t>ЖДАНОГ СТАБ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233208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Представљају добро ограничене групе неурона, које припадају једном неуронском систему (моторном, сензитивном, чулн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У овим једрима се потпуно или делимично прекидају влакна одговарајућег система и настављају се аксонима релејног једра, чиме се успоставља морфолошка и функционална це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Спроводе и обрађују пристигле информ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Већина се налази у тегментуму можданог стабла. Једино се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nuclei arcuati </a:t>
            </a: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(продужена мождина) и </a:t>
            </a:r>
            <a:r>
              <a:rPr b="0" lang="sr-Latn-CS" sz="2000" spc="-1" strike="noStrike">
                <a:solidFill>
                  <a:srgbClr val="000000"/>
                </a:solidFill>
                <a:latin typeface="Constantia"/>
              </a:rPr>
              <a:t>nuclei pontis </a:t>
            </a:r>
            <a:r>
              <a:rPr b="0" lang="sr-CS" sz="2000" spc="-1" strike="noStrike">
                <a:solidFill>
                  <a:srgbClr val="000000"/>
                </a:solidFill>
                <a:latin typeface="Constantia"/>
              </a:rPr>
              <a:t>(понс), налазе у базалним деловима можданог стаб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28760" y="1357200"/>
            <a:ext cx="8229600" cy="523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nstantia"/>
              </a:rPr>
              <a:t>РЕЛЕЈНА ЈЕДРА ПРОДУЖЕНЕ МОЖД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uclei arcuat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  -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моторни систем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gracilis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сензитивни сис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cuneatus   -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сензитивни сис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cuneatus accessorius -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сензитивни сис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donji olivarni kompleks –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моторни систем 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прецизни покрети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3 </a:t>
            </a:r>
            <a:r>
              <a:rPr b="1" lang="sr-CS" sz="1600" spc="-1" strike="noStrike">
                <a:solidFill>
                  <a:srgbClr val="000000"/>
                </a:solidFill>
                <a:latin typeface="Constantia"/>
              </a:rPr>
              <a:t>мала перихипоглосна нерва 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1" lang="sr-CS" sz="1600" spc="-1" strike="noStrike">
                <a:solidFill>
                  <a:srgbClr val="000000"/>
                </a:solidFill>
                <a:latin typeface="Constantia"/>
              </a:rPr>
              <a:t>учествују у регулацији покрета очију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ntercal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r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oll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preoptic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Constantia"/>
              </a:rPr>
              <a:t>РЕЛЕЈНА ЈЕДРА ПОН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uclei pontis –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моторни сист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c. </a:t>
            </a:r>
            <a:r>
              <a:rPr b="1" lang="en-US" sz="16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livaris superior –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у тегментуму понса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припада аудитивном сист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uclei corporis trapezoidei</a:t>
            </a:r>
            <a:r>
              <a:rPr b="1" lang="sr-CS" sz="1600" spc="-1" strike="noStrike">
                <a:solidFill>
                  <a:srgbClr val="000000"/>
                </a:solidFill>
                <a:latin typeface="Constantia"/>
              </a:rPr>
              <a:t> -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у тегментуму понса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припада аудитивном сист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nuclei lemnisci lateralis -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у тегментуму понса</a:t>
            </a:r>
            <a:r>
              <a:rPr b="0" lang="sr-Latn-CS" sz="1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Constantia"/>
              </a:rPr>
              <a:t>припада аудитивном систе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13840" y="1285920"/>
            <a:ext cx="8713800" cy="55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onstantia"/>
              </a:rPr>
              <a:t>РЕЛЕЈНА ЈЕДРА </a:t>
            </a: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MESENCEPHAL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6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strata grisea colliculi superioris – </a:t>
            </a:r>
            <a:r>
              <a:rPr b="1" lang="sr-CS" sz="1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 tectum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у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најважнији рефлексни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        оптички цен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- nc. colliculi inferioris - </a:t>
            </a:r>
            <a:r>
              <a:rPr b="1" lang="sr-CS" sz="1800" spc="-1" strike="noStrike">
                <a:solidFill>
                  <a:srgbClr val="000000"/>
                </a:solidFill>
                <a:latin typeface="Constantia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 tectum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у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најважнији рефлексни акустички цен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- area pretectalis –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у претекталном подруч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- nc. tractus opt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- nc. sublentiformis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укључено у рефлекс зенице на светл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- nc. pretectalis principalis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укључено у рефлекс зенице на светл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- nc. olivaris pretectalis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–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укључено у рефлекс зенице на светл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- nc. Interstitialis rostralis –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у периакведукталној сивој маси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помоћно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            окуломоторно јед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- nc. Interstitialis Cajal -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у периакведукталној сивој маси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помоћно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    окуломоторно јед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- nc. Darkshewitsch -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у периакведукталној сивој маси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помоћно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окуломоторно једр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- substantia nigra –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у граничној зони између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tegmentuma 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 crus cereb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713880"/>
            <a:ext cx="376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Constantia"/>
              </a:rPr>
              <a:t>Truncus cerebri</a:t>
            </a:r>
            <a:br>
              <a:rPr sz="2800"/>
            </a:b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Constantia"/>
              </a:rPr>
              <a:t>(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Constantia"/>
              </a:rPr>
              <a:t>Мождано стабло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Constant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2142720"/>
            <a:ext cx="405144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Лоциран између кичмене мождине и великог моз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Кроз њега пролазе путеви који повезују више и ниже делове ЦНС-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Делови: </a:t>
            </a:r>
            <a:r>
              <a:rPr b="1" lang="sr-Latn-CS" sz="1800" spc="-1" strike="noStrike">
                <a:solidFill>
                  <a:srgbClr val="000000"/>
                </a:solidFill>
                <a:latin typeface="Constantia"/>
              </a:rPr>
              <a:t>pons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, medulla oblongata, mesencepha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Сваки је дужине око 2,5 цм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Микроскопски, сваки део се састоји од дубоких сивих маса, окружених путевима, тј. Сноповима беле масе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Садржи центре аутономног нервног система који регулишу виталне функције (рад срца, дисање 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ttp://upload.wikimedia.org/wikipedia/commons/3/33/Human_brain_midsagittal_cut_description.JPG"/>
          <p:cNvPicPr/>
          <p:nvPr/>
        </p:nvPicPr>
        <p:blipFill>
          <a:blip r:embed="rId1"/>
          <a:stretch/>
        </p:blipFill>
        <p:spPr>
          <a:xfrm>
            <a:off x="3801960" y="1928880"/>
            <a:ext cx="5342040" cy="3703680"/>
          </a:xfrm>
          <a:prstGeom prst="rect">
            <a:avLst/>
          </a:prstGeom>
          <a:ln w="0">
            <a:noFill/>
          </a:ln>
        </p:spPr>
      </p:pic>
      <p:cxnSp>
        <p:nvCxnSpPr>
          <p:cNvPr id="129" name="Straight Arrow Connector 7"/>
          <p:cNvCxnSpPr/>
          <p:nvPr/>
        </p:nvCxnSpPr>
        <p:spPr>
          <a:xfrm flipH="1" flipV="1">
            <a:off x="5214240" y="5142960"/>
            <a:ext cx="143640" cy="857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0" name="Straight Arrow Connector 12"/>
          <p:cNvCxnSpPr/>
          <p:nvPr/>
        </p:nvCxnSpPr>
        <p:spPr>
          <a:xfrm flipH="1" flipV="1">
            <a:off x="5928480" y="4785840"/>
            <a:ext cx="500760" cy="1572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" name="Straight Arrow Connector 14"/>
          <p:cNvCxnSpPr/>
          <p:nvPr/>
        </p:nvCxnSpPr>
        <p:spPr>
          <a:xfrm flipH="1" flipV="1">
            <a:off x="6285960" y="4214160"/>
            <a:ext cx="857880" cy="17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2" name="TextBox 16"/>
          <p:cNvSpPr/>
          <p:nvPr/>
        </p:nvSpPr>
        <p:spPr>
          <a:xfrm>
            <a:off x="4069440" y="60721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edulla oblong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7"/>
          <p:cNvSpPr/>
          <p:nvPr/>
        </p:nvSpPr>
        <p:spPr>
          <a:xfrm>
            <a:off x="6267600" y="62866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9"/>
          <p:cNvSpPr/>
          <p:nvPr/>
        </p:nvSpPr>
        <p:spPr>
          <a:xfrm>
            <a:off x="6643080" y="600084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esencepha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http://upload.wikimedia.org/wikipedia/commons/3/33/Human_brain_midsagittal_cut_description.JPG"/>
          <p:cNvPicPr/>
          <p:nvPr/>
        </p:nvPicPr>
        <p:blipFill>
          <a:blip r:embed="rId1"/>
          <a:srcRect l="5047" t="0" r="0" b="0"/>
          <a:stretch/>
        </p:blipFill>
        <p:spPr>
          <a:xfrm>
            <a:off x="4071960" y="1928880"/>
            <a:ext cx="5072040" cy="3703680"/>
          </a:xfrm>
          <a:prstGeom prst="rect">
            <a:avLst/>
          </a:prstGeom>
          <a:ln w="0">
            <a:noFill/>
          </a:ln>
        </p:spPr>
      </p:pic>
      <p:cxnSp>
        <p:nvCxnSpPr>
          <p:cNvPr id="136" name="Straight Arrow Connector 7"/>
          <p:cNvCxnSpPr/>
          <p:nvPr/>
        </p:nvCxnSpPr>
        <p:spPr>
          <a:xfrm flipH="1" flipV="1">
            <a:off x="5214240" y="5142960"/>
            <a:ext cx="143640" cy="8578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7" name="Straight Arrow Connector 12"/>
          <p:cNvCxnSpPr/>
          <p:nvPr/>
        </p:nvCxnSpPr>
        <p:spPr>
          <a:xfrm flipH="1" flipV="1">
            <a:off x="5928480" y="4785840"/>
            <a:ext cx="500760" cy="1572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8" name="Straight Arrow Connector 14"/>
          <p:cNvCxnSpPr/>
          <p:nvPr/>
        </p:nvCxnSpPr>
        <p:spPr>
          <a:xfrm flipH="1" flipV="1">
            <a:off x="6285960" y="4214160"/>
            <a:ext cx="857880" cy="17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9" name="TextBox 16"/>
          <p:cNvSpPr/>
          <p:nvPr/>
        </p:nvSpPr>
        <p:spPr>
          <a:xfrm>
            <a:off x="4069440" y="607212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edulla oblong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7"/>
          <p:cNvSpPr/>
          <p:nvPr/>
        </p:nvSpPr>
        <p:spPr>
          <a:xfrm>
            <a:off x="6267600" y="62866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6643080" y="6000840"/>
            <a:ext cx="18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esencepha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928440"/>
            <a:ext cx="419112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Садржи једра која су центри контроле аутономног нервног система, једра можданих живаца, релејна јед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Једра аутономног нервног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Кардиоваскуларни цен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Кардиоинхибиторни и кардиоексцитаторни центри који мењају фреквенцију и снагу срчане контр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Васкуларне центре који мењају тонус глатких мишића крвних суд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Респираторни цен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Примају информације из пон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Остали центри 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329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Повраћање, гутање, кашаљ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штуцање, киј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0" y="100008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Medulla Oblong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0" y="10717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Medulla Oblong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n2a5p1"/>
          <p:cNvPicPr/>
          <p:nvPr/>
        </p:nvPicPr>
        <p:blipFill>
          <a:blip r:embed="rId1"/>
          <a:srcRect l="4344" t="10866" r="4344" b="8699"/>
          <a:stretch/>
        </p:blipFill>
        <p:spPr>
          <a:xfrm>
            <a:off x="4983120" y="2143080"/>
            <a:ext cx="4160880" cy="36655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952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Сензорна и моторна једра 5 кранијалних нерава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nstant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N. vestibulocochlearis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r (8)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nstant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N. glossopharyngeus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(9)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nstant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N.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Vagus (10)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nstant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N.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Accessor</a:t>
            </a: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ius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(11)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nstant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N.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Hypogloss</a:t>
            </a: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us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(12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onstantia"/>
              </a:rPr>
              <a:t>Релејна јeдр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nstant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Nucleus gracilis </a:t>
            </a: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 nucleus cuneatus </a:t>
            </a: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преносе соматске сензитивне информације до таламус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-51192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Constanti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onstantia"/>
              </a:rPr>
              <a:t>Оливарна једра преносе информације из кичмене мождине, великог мозга и можданог стабла до коре малог мозга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5076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0" y="10717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Medulla Oblong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n2a5p1"/>
          <p:cNvPicPr/>
          <p:nvPr/>
        </p:nvPicPr>
        <p:blipFill>
          <a:blip r:embed="rId1"/>
          <a:srcRect l="4344" t="10866" r="4344" b="8699"/>
          <a:stretch/>
        </p:blipFill>
        <p:spPr>
          <a:xfrm>
            <a:off x="4983120" y="2143080"/>
            <a:ext cx="4160880" cy="3665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1571760"/>
            <a:ext cx="485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ГРАНИЦЕ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на вентралној стран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доле: 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decussatio pyrami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горе: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sulcus bulbopontinu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на дорзалној стран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доле: место изласка Ц1 жив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горе: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 striae medul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7"/>
          <p:cNvSpPr/>
          <p:nvPr/>
        </p:nvSpPr>
        <p:spPr>
          <a:xfrm>
            <a:off x="5455440" y="6000840"/>
            <a:ext cx="26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cussatio pyramid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" name="Straight Arrow Connector 9"/>
          <p:cNvCxnSpPr/>
          <p:nvPr/>
        </p:nvCxnSpPr>
        <p:spPr>
          <a:xfrm flipV="1">
            <a:off x="6072120" y="4142880"/>
            <a:ext cx="929520" cy="1929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sp>
        <p:nvSpPr>
          <p:cNvPr id="154" name="TextBox 12"/>
          <p:cNvSpPr/>
          <p:nvPr/>
        </p:nvSpPr>
        <p:spPr>
          <a:xfrm>
            <a:off x="5190840" y="178596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ulcus bulbopont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traight Arrow Connector 13"/>
          <p:cNvCxnSpPr>
            <a:stCxn id="154" idx="2"/>
          </p:cNvCxnSpPr>
          <p:nvPr/>
        </p:nvCxnSpPr>
        <p:spPr>
          <a:xfrm>
            <a:off x="6450480" y="2155680"/>
            <a:ext cx="335880" cy="4168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0" y="10717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Medulla Oblong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n2a5p1"/>
          <p:cNvPicPr/>
          <p:nvPr/>
        </p:nvPicPr>
        <p:blipFill>
          <a:blip r:embed="rId1"/>
          <a:srcRect l="4344" t="10866" r="4344" b="8699"/>
          <a:stretch/>
        </p:blipFill>
        <p:spPr>
          <a:xfrm>
            <a:off x="5143680" y="2143080"/>
            <a:ext cx="4000320" cy="35244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521496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ВЕНТРАЛНА СТРАНА: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- sulcus </a:t>
            </a: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b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ulbopontinus (излазе VI, VII, VIIbis и VII кранијални нер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fissura mediana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d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ecissatio pyrami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fibreae arcuatae externae ant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pyra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sulcus anterolateralis (излази XII кранијални нер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ol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sulcus posterolateralis (излазе IX, X, и XI кранијални нер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" name="Straight Arrow Connector 9"/>
          <p:cNvCxnSpPr/>
          <p:nvPr/>
        </p:nvCxnSpPr>
        <p:spPr>
          <a:xfrm>
            <a:off x="3285720" y="3214800"/>
            <a:ext cx="3786840" cy="64512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61" name="Straight Arrow Connector 13"/>
          <p:cNvCxnSpPr/>
          <p:nvPr/>
        </p:nvCxnSpPr>
        <p:spPr>
          <a:xfrm>
            <a:off x="2785680" y="2142720"/>
            <a:ext cx="4143600" cy="50076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  <p:cxnSp>
        <p:nvCxnSpPr>
          <p:cNvPr id="162" name="Straight Arrow Connector 14"/>
          <p:cNvCxnSpPr/>
          <p:nvPr/>
        </p:nvCxnSpPr>
        <p:spPr>
          <a:xfrm>
            <a:off x="3499920" y="2785680"/>
            <a:ext cx="3715560" cy="78660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rcRect l="8711" t="6260" r="38312" b="37549"/>
          <a:stretch/>
        </p:blipFill>
        <p:spPr>
          <a:xfrm>
            <a:off x="3976560" y="2071800"/>
            <a:ext cx="5167440" cy="41097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0" y="13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0" y="10717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Medulla Oblong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785880"/>
            <a:ext cx="521496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nstantia"/>
              </a:rPr>
              <a:t>ДОРЗАЛНА СТРАНА:</a:t>
            </a:r>
            <a:br>
              <a:rPr sz="2400"/>
            </a:b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2 ДЕ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 ГОРЊИ (fossa rhomboidea - pars bulbar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 sulcus medi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 sulcus limit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 fovea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 еminentia medial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 trigonum nervi hypoglossi 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  (моторно једро  N. XI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 trigonum nervi vagi </a:t>
            </a:r>
            <a:br>
              <a:rPr sz="1800"/>
            </a:b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  (PSY једро N. X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 area postr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ДОЊИ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 – pedunculli cerebellares inferi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 sulcus medianus post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-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uberculum grac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- t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uberculum cuneat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- t</a:t>
            </a:r>
            <a:r>
              <a:rPr b="0" lang="sr-CS" sz="1800" spc="-1" strike="noStrike">
                <a:solidFill>
                  <a:srgbClr val="000000"/>
                </a:solidFill>
                <a:latin typeface="Constantia"/>
              </a:rPr>
              <a:t>ubercilum trigem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82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onstantia"/>
              </a:rPr>
              <a:t>P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4572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У преводу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“мос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Налази се између продужене мождине и средњег мозга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Садржи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Сензорна и моторна једра 4 кранијална живца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N. trigeminus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5),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N. abducens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6), 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N. f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cial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is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7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i N. Vestibulocochlearisa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Респираторна једра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Респираторне центре који са центрима у продуженој мождини регулишу ритам дис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Једра и путеве који обрађују и преносе информације у и из малог моз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nstant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nstantia"/>
              </a:rPr>
              <a:t>Усходне и нисходне путеве који повезују друге делове ЦНС-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sol00671"/>
          <p:cNvPicPr/>
          <p:nvPr/>
        </p:nvPicPr>
        <p:blipFill>
          <a:blip r:embed="rId1"/>
          <a:srcRect l="3127" t="0" r="3127" b="5299"/>
          <a:stretch/>
        </p:blipFill>
        <p:spPr>
          <a:xfrm>
            <a:off x="5286240" y="1071720"/>
            <a:ext cx="3143520" cy="23572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pons"/>
          <p:cNvPicPr/>
          <p:nvPr/>
        </p:nvPicPr>
        <p:blipFill>
          <a:blip r:embed="rId2"/>
          <a:stretch/>
        </p:blipFill>
        <p:spPr>
          <a:xfrm>
            <a:off x="5029200" y="3546360"/>
            <a:ext cx="35812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Vista</cp:lastModifiedBy>
  <dcterms:modified xsi:type="dcterms:W3CDTF">2014-10-05T19:48:37Z</dcterms:modified>
  <cp:revision>1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85</vt:lpwstr>
  </property>
</Properties>
</file>